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4C90E-DA0D-46D6-B21A-7C42A36EB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8874B-FA66-43CC-B871-598448FAD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B9D6B-5576-465F-B1EC-C11081EE3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6B7BA-27FF-428C-BEE0-7A046E5DF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FB71A-016A-407C-BC13-0C775A2C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4D282-F68E-4050-9CE4-26037CF0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CDB25-C6DB-46C4-B724-194A6283E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F9645-D3A1-4CE1-9F51-B478E007F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C65EE-A8A4-4F82-839E-1870EF8A0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D1CA-76E4-4085-8BB8-AEA5EA05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4563-EC78-4B77-9E1E-24389FF7A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80E7-39E5-4921-A19D-C095D432F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44EC-ED56-4104-A09E-D3ACAAFE1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Digital-Virtual Library of the State of the Environme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nd Niemann, Ph.D.</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 Librarian and Computer Scientis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tember 9 and 15,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gital Librari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Every organization that begins to move beyond bibliographic citations to providing online content for its patrons has begun to build a digital library.” David Barber, OhioLIN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igital libraries are organizations that deliver a rich and coherent set of information services.” Donald Waters, C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Metadata - Definition and Evolution</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about information (data about data) to help with information retrieval and knowledge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brary card catalog pointer to boo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atial (GIS) data to avoid costly duplication of effort (FGD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Description Framework (RDF) to enable metadata interoperability (an XML ap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tadata - Examples and Tool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ks - indices in the bac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tial (GIS) data layers - MetaLit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ags - additions to HTML cod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blin Core - OCL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Web files - Verity Search’97</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b Inventory - Cold F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ML - tags and tools to describe conten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formation Retrieval and Knowledge Managemen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and retrieve any or all possible combinations of the items with the words, phrases, etc. highligh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t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a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Objects (spreadsheets, databases, presen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duct Capabilities - Schematic</a:t>
            </a:r>
            <a:endParaRPr b="0" lang="en-US" sz="4000" spc="-1" strike="noStrike">
              <a:solidFill>
                <a:srgbClr val="000000"/>
              </a:solidFill>
              <a:latin typeface="Times New Roman"/>
            </a:endParaRPr>
          </a:p>
        </p:txBody>
      </p:sp>
      <p:sp>
        <p:nvSpPr>
          <p:cNvPr id="67" name=""/>
          <p:cNvSpPr/>
          <p:nvPr/>
        </p:nvSpPr>
        <p:spPr>
          <a:xfrm>
            <a:off x="1905120" y="1905120"/>
            <a:ext cx="533376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8" name=""/>
          <p:cNvCxnSpPr>
            <a:stCxn id="67" idx="0"/>
            <a:endCxn id="67" idx="2"/>
          </p:cNvCxnSpPr>
          <p:nvPr/>
        </p:nvCxnSpPr>
        <p:spPr>
          <a:xfrm>
            <a:off x="4571640" y="1905120"/>
            <a:ext cx="1080" cy="3962880"/>
          </a:xfrm>
          <a:prstGeom prst="straightConnector1">
            <a:avLst/>
          </a:prstGeom>
          <a:ln w="9360">
            <a:solidFill>
              <a:srgbClr val="000000"/>
            </a:solidFill>
            <a:miter/>
          </a:ln>
        </p:spPr>
      </p:cxnSp>
      <p:cxnSp>
        <p:nvCxnSpPr>
          <p:cNvPr id="69" name=""/>
          <p:cNvCxnSpPr>
            <a:stCxn id="67" idx="1"/>
            <a:endCxn id="67" idx="1"/>
          </p:cNvCxnSpPr>
          <p:nvPr/>
        </p:nvCxnSpPr>
        <p:spPr>
          <a:xfrm>
            <a:off x="1904760" y="3885840"/>
            <a:ext cx="1080" cy="1080"/>
          </a:xfrm>
          <a:prstGeom prst="straightConnector1">
            <a:avLst/>
          </a:prstGeom>
          <a:ln w="9360">
            <a:solidFill>
              <a:srgbClr val="000000"/>
            </a:solidFill>
            <a:miter/>
          </a:ln>
        </p:spPr>
      </p:cxnSp>
      <p:cxnSp>
        <p:nvCxnSpPr>
          <p:cNvPr id="70" name=""/>
          <p:cNvCxnSpPr>
            <a:stCxn id="67" idx="0"/>
            <a:endCxn id="67" idx="0"/>
          </p:cNvCxnSpPr>
          <p:nvPr/>
        </p:nvCxnSpPr>
        <p:spPr>
          <a:xfrm>
            <a:off x="4571640" y="1904760"/>
            <a:ext cx="1080" cy="1080"/>
          </a:xfrm>
          <a:prstGeom prst="straightConnector1">
            <a:avLst/>
          </a:prstGeom>
          <a:ln w="9360">
            <a:solidFill>
              <a:srgbClr val="000000"/>
            </a:solidFill>
            <a:miter/>
          </a:ln>
        </p:spPr>
      </p:cxnSp>
      <p:cxnSp>
        <p:nvCxnSpPr>
          <p:cNvPr id="71" name=""/>
          <p:cNvCxnSpPr>
            <a:stCxn id="67" idx="1"/>
            <a:endCxn id="67" idx="3"/>
          </p:cNvCxnSpPr>
          <p:nvPr/>
        </p:nvCxnSpPr>
        <p:spPr>
          <a:xfrm>
            <a:off x="1905120" y="3885840"/>
            <a:ext cx="5334480" cy="1080"/>
          </a:xfrm>
          <a:prstGeom prst="straightConnector1">
            <a:avLst/>
          </a:prstGeom>
          <a:ln w="9360">
            <a:solidFill>
              <a:srgbClr val="000000"/>
            </a:solidFill>
            <a:miter/>
            <a:tailEnd len="med" type="triangle" w="med"/>
          </a:ln>
        </p:spPr>
      </p:cxnSp>
      <p:sp>
        <p:nvSpPr>
          <p:cNvPr id="72" name=""/>
          <p:cNvSpPr/>
          <p:nvPr/>
        </p:nvSpPr>
        <p:spPr>
          <a:xfrm>
            <a:off x="2362320" y="1180080"/>
            <a:ext cx="51307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ch End-User Experience</a:t>
            </a:r>
            <a:endParaRPr b="0" lang="en-US" sz="3200" spc="-1" strike="noStrike">
              <a:solidFill>
                <a:srgbClr val="000000"/>
              </a:solidFill>
              <a:latin typeface="Times New Roman"/>
            </a:endParaRPr>
          </a:p>
        </p:txBody>
      </p:sp>
      <p:sp>
        <p:nvSpPr>
          <p:cNvPr id="73" name=""/>
          <p:cNvSpPr/>
          <p:nvPr/>
        </p:nvSpPr>
        <p:spPr>
          <a:xfrm>
            <a:off x="3276360" y="5866560"/>
            <a:ext cx="27028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Engine</a:t>
            </a:r>
            <a:endParaRPr b="0" lang="en-US" sz="3200" spc="-1" strike="noStrike">
              <a:solidFill>
                <a:srgbClr val="000000"/>
              </a:solidFill>
              <a:latin typeface="Times New Roman"/>
            </a:endParaRPr>
          </a:p>
        </p:txBody>
      </p:sp>
      <p:sp>
        <p:nvSpPr>
          <p:cNvPr id="74" name=""/>
          <p:cNvSpPr/>
          <p:nvPr/>
        </p:nvSpPr>
        <p:spPr>
          <a:xfrm>
            <a:off x="0" y="2723760"/>
            <a:ext cx="1981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a:t>
            </a:r>
            <a:endParaRPr b="0" lang="en-US" sz="2400" spc="-1" strike="noStrike">
              <a:solidFill>
                <a:srgbClr val="000000"/>
              </a:solidFill>
              <a:latin typeface="Times New Roman"/>
            </a:endParaRPr>
          </a:p>
        </p:txBody>
      </p:sp>
      <p:sp>
        <p:nvSpPr>
          <p:cNvPr id="75" name=""/>
          <p:cNvSpPr/>
          <p:nvPr/>
        </p:nvSpPr>
        <p:spPr>
          <a:xfrm>
            <a:off x="7238880" y="3031560"/>
            <a:ext cx="190512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 of the Bo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sh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76" name=""/>
          <p:cNvSpPr/>
          <p:nvPr/>
        </p:nvSpPr>
        <p:spPr>
          <a:xfrm>
            <a:off x="5029200" y="2056680"/>
            <a:ext cx="2260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vePublish</a:t>
            </a:r>
            <a:endParaRPr b="0" lang="en-US" sz="3200" spc="-1" strike="noStrike">
              <a:solidFill>
                <a:srgbClr val="000000"/>
              </a:solidFill>
              <a:latin typeface="Times New Roman"/>
            </a:endParaRPr>
          </a:p>
        </p:txBody>
      </p:sp>
      <p:sp>
        <p:nvSpPr>
          <p:cNvPr id="77" name=""/>
          <p:cNvSpPr/>
          <p:nvPr/>
        </p:nvSpPr>
        <p:spPr>
          <a:xfrm>
            <a:off x="1905120" y="1999440"/>
            <a:ext cx="26668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grown</a:t>
            </a:r>
            <a:endParaRPr b="0" lang="en-US" sz="3200" spc="-1" strike="noStrike">
              <a:solidFill>
                <a:srgbClr val="000000"/>
              </a:solidFill>
              <a:latin typeface="Times New Roman"/>
            </a:endParaRPr>
          </a:p>
        </p:txBody>
      </p:sp>
      <p:sp>
        <p:nvSpPr>
          <p:cNvPr id="78" name=""/>
          <p:cNvSpPr/>
          <p:nvPr/>
        </p:nvSpPr>
        <p:spPr>
          <a:xfrm>
            <a:off x="5867280" y="4571280"/>
            <a:ext cx="13716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ty</a:t>
            </a:r>
            <a:endParaRPr b="0" lang="en-US" sz="3200" spc="-1" strike="noStrike">
              <a:solidFill>
                <a:srgbClr val="000000"/>
              </a:solidFill>
              <a:latin typeface="Times New Roman"/>
            </a:endParaRPr>
          </a:p>
        </p:txBody>
      </p:sp>
      <p:sp>
        <p:nvSpPr>
          <p:cNvPr id="79" name=""/>
          <p:cNvSpPr/>
          <p:nvPr/>
        </p:nvSpPr>
        <p:spPr>
          <a:xfrm>
            <a:off x="4876920" y="5013360"/>
            <a:ext cx="18316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aVista</a:t>
            </a:r>
            <a:endParaRPr b="0" lang="en-US" sz="3200" spc="-1" strike="noStrike">
              <a:solidFill>
                <a:srgbClr val="000000"/>
              </a:solidFill>
              <a:latin typeface="Times New Roman"/>
            </a:endParaRPr>
          </a:p>
        </p:txBody>
      </p:sp>
      <p:sp>
        <p:nvSpPr>
          <p:cNvPr id="80" name=""/>
          <p:cNvSpPr/>
          <p:nvPr/>
        </p:nvSpPr>
        <p:spPr>
          <a:xfrm>
            <a:off x="5410080" y="3199680"/>
            <a:ext cx="17431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scape</a:t>
            </a:r>
            <a:endParaRPr b="0" lang="en-US" sz="3200" spc="-1" strike="noStrike">
              <a:solidFill>
                <a:srgbClr val="000000"/>
              </a:solidFill>
              <a:latin typeface="Times New Roman"/>
            </a:endParaRPr>
          </a:p>
        </p:txBody>
      </p:sp>
      <p:sp>
        <p:nvSpPr>
          <p:cNvPr id="81" name=""/>
          <p:cNvSpPr/>
          <p:nvPr/>
        </p:nvSpPr>
        <p:spPr>
          <a:xfrm>
            <a:off x="3048120" y="4403520"/>
            <a:ext cx="28033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S Site Server</a:t>
            </a:r>
            <a:endParaRPr b="0" lang="en-US" sz="3200" spc="-1" strike="noStrike">
              <a:solidFill>
                <a:srgbClr val="000000"/>
              </a:solidFill>
              <a:latin typeface="Times New Roman"/>
            </a:endParaRPr>
          </a:p>
        </p:txBody>
      </p:sp>
      <p:sp>
        <p:nvSpPr>
          <p:cNvPr id="82" name=""/>
          <p:cNvSpPr/>
          <p:nvPr/>
        </p:nvSpPr>
        <p:spPr>
          <a:xfrm>
            <a:off x="4572000" y="3047040"/>
            <a:ext cx="9302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o</a:t>
            </a:r>
            <a:endParaRPr b="0" lang="en-US" sz="3200" spc="-1" strike="noStrike">
              <a:solidFill>
                <a:srgbClr val="000000"/>
              </a:solidFill>
              <a:latin typeface="Times New Roman"/>
            </a:endParaRPr>
          </a:p>
        </p:txBody>
      </p:sp>
      <p:sp>
        <p:nvSpPr>
          <p:cNvPr id="83" name=""/>
          <p:cNvSpPr/>
          <p:nvPr/>
        </p:nvSpPr>
        <p:spPr>
          <a:xfrm>
            <a:off x="3809880" y="2346120"/>
            <a:ext cx="28702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S Office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duct Capabilities Categories</a:t>
            </a:r>
            <a:endParaRPr b="0" lang="en-US" sz="40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earch Eng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Rich End-User Experi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Out of the Box Publishing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Custom Development Requi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1</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Engine</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ily an index of fil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ll-text searching</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urns list of documents</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a Vista</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crosoft Site Serv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ity Search ‘9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2</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ch End-User Experienc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 elements available and sync’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rtual and automatic Table of Content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figurable Hitlist (ranked and/or sort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document search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t highlight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xt/previous hits, next/previous documents</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vePublish</a:t>
            </a:r>
            <a:endParaRPr b="0" lang="en-US" sz="2800" spc="-1" strike="noStrike">
              <a:solidFill>
                <a:srgbClr val="000000"/>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3</a:t>
            </a:r>
            <a:endParaRPr b="0" lang="en-US" sz="4400" spc="-1" strike="noStrike">
              <a:solidFill>
                <a:srgbClr val="000000"/>
              </a:solidFill>
              <a:latin typeface="Times New Roman"/>
            </a:endParaRPr>
          </a:p>
        </p:txBody>
      </p:sp>
      <p:sp>
        <p:nvSpPr>
          <p:cNvPr id="91" name="PlaceHolder 2"/>
          <p:cNvSpPr>
            <a:spLocks noGrp="1"/>
          </p:cNvSpPr>
          <p:nvPr>
            <p:ph/>
          </p:nvPr>
        </p:nvSpPr>
        <p:spPr>
          <a:xfrm>
            <a:off x="685440" y="1600200"/>
            <a:ext cx="80010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 of the Box Publishing Appl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 facto standards b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rce cap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ort from one vend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derstands professional publish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S Office 200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scape PublishingXper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duct Capabilities - 4</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stom Development Requir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stom programm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ificant developer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ly to mainta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 provide the sup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egrow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218960"/>
            <a:ext cx="7772400" cy="51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en-US" sz="4000" spc="-1" strike="noStrike">
                <a:solidFill>
                  <a:srgbClr val="000000"/>
                </a:solidFill>
                <a:latin typeface="Times New Roman"/>
              </a:rPr>
              <a:t>With all of everyone’s work online, we will have the opportunity...to let everyone use everyone else’s intellectual effort…The challenge for librarians and computer scientists is to let us find the information we want in other people’s work.”</a:t>
            </a:r>
            <a:br>
              <a:rPr sz="4000"/>
            </a:br>
            <a:r>
              <a:rPr b="1" lang="en-US" sz="4000" spc="-1" strike="noStrike">
                <a:solidFill>
                  <a:srgbClr val="000000"/>
                </a:solidFill>
                <a:latin typeface="Times New Roman"/>
              </a:rPr>
              <a:t>Michael E. Lesk (1997)</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er Review: Some Highligh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l Summary Report of CEIS Web Site Focus Group Sessions (12/98 – 3/99)</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DI Interagency Digital Library for Science &amp; Engineering (IDLSE) Projec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apers evolved to help peer reviewers/usability testers (see next pag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FI How to Design Usable Web Site (excerpts that app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er Review Paper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per 1 - An Evaluation of the Digital Library of the State of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per 2 - A Users Guide to the Digital Library of the State of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per 3</a:t>
            </a:r>
            <a:r>
              <a:rPr b="0" lang="en-US" sz="3200" spc="-1" strike="noStrike">
                <a:solidFill>
                  <a:srgbClr val="000000"/>
                </a:solidFill>
                <a:latin typeface="Times New Roman"/>
              </a:rPr>
              <a:t> - </a:t>
            </a:r>
            <a:r>
              <a:rPr b="1" lang="en-US" sz="3200" spc="-1" strike="noStrike">
                <a:solidFill>
                  <a:srgbClr val="000000"/>
                </a:solidFill>
                <a:latin typeface="Times New Roman"/>
              </a:rPr>
              <a:t>Partnerships in the Digital Library of the State of the Environ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1</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ty Corpor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ity struggled in 1997-98 and is now doing well in 1999</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 leading corporations use Search’97 as Web and Intranet search engin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ed by EPA in 1997 as key tool for finding and managing information on EPA’s public access server along with building of Web Metadata Inven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2</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ty Fundamentals-4 days x 6 hrs+lab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ified instructor - excellen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ining Manual and Lab Notes - room for improvemen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r Team - Bell Atlantic, Lockheed-Martin, NC State Library (MyLibrary) (2) and EPA</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students were beginners having inherited a Verity application from predecessors and had problems with making Verity work</a:t>
            </a:r>
            <a:endParaRPr b="0" lang="en-US" sz="28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 and Architecture</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porate Warehouse or Repository (desktop, Intranet, and Internet) of documents</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ider and Build Collections (virtual documents) with mostly command-line and some GUI tools. Important Note: Collections are not the repository of documents themselves.</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documents contain the Table (metadata) and the Index (every word) in HTML format</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proprietary Query Language and SEARCHScript to construct user interface in HTML files</a:t>
            </a:r>
            <a:endParaRPr b="0" lang="en-US" sz="2400" spc="-1" strike="noStrike">
              <a:solidFill>
                <a:srgbClr val="000000"/>
              </a:solidFill>
              <a:latin typeface="Times New Roman"/>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4</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documents Verity Table metadata</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 - title of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 - author of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words - keywords in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ippet - first 400 printable character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ME-Type - the mime type of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set - character set used in the document</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 To field in the document (e.g. email)</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last date document modified</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sgroups and PageMap - if news or PDF</a:t>
            </a:r>
            <a:endParaRPr b="0" lang="en-US" sz="2400" spc="-1" strike="noStrike">
              <a:solidFill>
                <a:srgbClr val="0000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5</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Product Evolution - additional layers for Information Serv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2 - scalable/distributed version of I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eways to document repositories - read DB, Lotus NOTES, M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 Server - notifies users of new documents that meet user’s query</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ledge Organizer - organize documents in collection into a Yahoo-like set of categori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 Navigator - large documents (&gt;10 MB) with structure (table of contents analysis and displ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Fundamentals Training Course - Highlights and Implications 6</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sons Learned</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kvdk is probably better than the vspider when you know the URLs of the documents and want to merge your own metadata (metatag info doesn’t display)</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urposing (large) documents with structure and metadata improves the collection search results, the “snippet” display information, and document navigation (Document Navigator)</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State Librarians like AltaVista Discovery (free) for distributed indexing, finding links to a Web page, and finding related links and Web site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ty Search ‘97 - The “Virtual” Part of Digital Library Version 1</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epa.gov/ceisweb1/ceishome/digitalli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er word or phrase in Search Box and click Search button to search entire colle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wse Hit List of URLs and snippets and/or narrow 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 highlighted h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Category to jump to and select documents within Category to search and follow steps abov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057400"/>
            <a:ext cx="792504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The benefits of digital libraries will not be appreciated unless they are easy to use effectively.” Ed Fox (199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grou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rp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Fundamentals Training Course - Highlights and Im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Search ‘97 - The “Virtual” Part of Digital Library Version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nt additions - Building Directory Web Pa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ty Document Navigator - Improving the “Digital” Part in Digital Library Version 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Next Ste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ity Document Navigator - Improving the “Digital” Part in Digital Library Version 2</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161.80.45.85/VerityDN1.htm Integrated search of titles, metadata, and the complete structured documents and easier and cheaper to develop, update and maintain than current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1 - select collection to search (e.g. titles, metadata, and/or complete documents) and enter word or phrase in Search Bo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2 - browse list of titles and metadata subset with hits highlighted and link to complete metadata record or completed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3 - complete metadata record with hits highligh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 4 - complete document with hits highlight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ent Additions - Building Directory Web Page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of the World Country Reports - integrate titles, metadata, and complete structured documents (7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ving Biological Resources - integrate two most comprehensive reports (17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Asked Environmental Questions - build database from Web search and PERI report “Scoping Study of the Use of EPA Internet Web Pages and Hotlines” (29+)</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Much of the art of digital library building is careful strategy. The successful application of technology is an art form. One of the best strategies is to let someone else do the work.”</a:t>
            </a:r>
            <a:br>
              <a:rPr sz="4400"/>
            </a:br>
            <a:r>
              <a:rPr b="1" lang="en-US" sz="4400" spc="-1" strike="noStrike">
                <a:solidFill>
                  <a:srgbClr val="000000"/>
                </a:solidFill>
                <a:latin typeface="Times New Roman"/>
              </a:rPr>
              <a:t>David Barber (199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me Next Step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gency Digital Earth Working Group (IDEW7), Discussion of Digital Libraries, September 1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NASA Goddard, Greenbelt, MD. Discussed with Sidney Draggan, EPA’s IDEWG lead.</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DI Workshop “Controlled Vocabulary and the Internet”, September 29</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National Library of Medicine. Registration confirmed and discussed with Bob Shepanek, EPA CENDI Lead, and Linda Spencer</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SF-DGI Digital Gazetteer Information Workshop, October 12-14th, Smithsonian Institution. Invited because of Digital Library and LandView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me Next Steps (continued)</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ild three collections (World, US, and EPA) with three elements (titles, metadata, and re-purposed structured document) for Verity Search’97 (mkvdk) and Document Navigator</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URLs to AltaVista Discove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e Web search engine results, including EPA Verity, to expand collection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 and Answ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Question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the history (peer review)?</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next pag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 we have now?</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1.1 on the EPA Web Sit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 we have in the pipelin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2+ on my desktop Web Serv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es this relate to the EPA Web Inventory?</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metadata has been added (see handout)</a:t>
            </a: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ief History</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3 - Guide to Environmental Statistics in Folio Infobase on diskettes and FTP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4 - EPA reports in Folio Infobases on CD-ROM (mine and NDPD’s EPA Do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5-1997 - Digital Library of SOE reports on CD-ROM and the Web for DOI/NBS/US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7-present - see next p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gital Library: pre- to post-CEI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523520"/>
            <a:ext cx="784872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97 Version 0.5: SOE reports compendium on CD-R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7 Version 1.0: SOE reports in Folio infobases and spidered links in 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98 Version 1.1: SOE reports and Master Index (metadata) in Folio 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98 Version 1.2: Federal Depository Library Conference and EPA Summer Teachers Institute usability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gital Library: pre- to post-CEI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523520"/>
            <a:ext cx="7848720" cy="4876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98 Version 1.3: FedWeb Digital Libraries Seminar</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8 Version 1.4: Double content and metadata and provide new interfac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98 Version 1.5: Theme and geographic region interface &amp; regional “drill down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99 Version 2.0: New interface for different users and new content/metadata</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99 Version 2.1: LivePublish for precision browsing and 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gital Library: pre- to post-CEIS</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523520"/>
            <a:ext cx="784872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99 Version 2.2: Integrated Digital Library on CD/DVD-ROM (Folio, LV3, MrSID, and Office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99 Version 2.0 Peer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9 Version 3.0: Document Navigator Prototype and Verity Training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99+: LandView IV, CENDI, Digital Earth, Digital Gazetter, and Open Metadata initi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371600"/>
            <a:ext cx="7848720" cy="54864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 Virtual Library</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 (have the actual documents and “perfect” metadata)</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only links to documents and need metadata)</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brary (from ALA/NISO* functions and resource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nt management system (metadata)</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structure services (security and payment)</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xiliary services (patrons, CD-ROMs, SDI, etc.)</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ion (multiple services linked)</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 (trained in digital way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ware (servers, networks, etc.)</a:t>
            </a:r>
            <a:endParaRPr b="0" lang="en-US" sz="2400" spc="-1" strike="noStrike">
              <a:solidFill>
                <a:srgbClr val="000000"/>
              </a:solidFill>
              <a:latin typeface="Times New Roman"/>
            </a:endParaRPr>
          </a:p>
          <a:p>
            <a:pPr lvl="3" marL="155196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erican Library Association/National Information Standards Organiz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4:33Z</dcterms:created>
  <dc:creator>niemann family</dc:creator>
  <dc:description/>
  <dc:language>en-US</dc:language>
  <cp:lastModifiedBy>niemann family</cp:lastModifiedBy>
  <dcterms:modified xsi:type="dcterms:W3CDTF">1999-09-15T01:43:10Z</dcterms:modified>
  <cp:revision>177</cp:revision>
  <dc:subject/>
  <dc:title>The Digital-Virtual Library of the State of the Environment</dc:title>
</cp:coreProperties>
</file>